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0584-1F1A-49D9-9535-DC9AD1924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i-й производитель в период t назначает на свои машины арендную плату p(i,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м спрос на машины i-го ти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зим x(i,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(t) – ставка процента; s, s’ – счетчики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i-го типа по их цене составляет -1/b, 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, поделив на Y(t) получа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кольку C+X+Z=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Z(t), выразим темпы прироста продуктового разнообраз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L) 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b) – хотя на первый взгляд это не очевидно, можно показать, что это утверждение справедливо для 0&lt;b&lt;1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ержки производства машин (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J с однотипными, но разными производственными функ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j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(Y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(N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м использованных машин (x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юджетное ограничение, разумеется, будет для каждой страны собственным, раз у нее свой выпу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ведем более существенное изменение: уровень развития мировых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 показывает степень чувствительности скорости преследования к величине отст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AK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оло 9/10 всех изобретений в мире приходится на развитые страны. Соответствует ли этот факт предсказаниям модел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«Макроэкономике» Тумановой и Шагас, п. 10.3.1. (там несколько другие обознач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L, и их число не изменяется со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t – время; C(t) – объем потребления блага; r – коэффициент дисконтирования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θ - показатель межвременной эластичности замещ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N(t), а производственная функция выглядит следующим образ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есь b – эластичность выпуска по затратам труда; xi,t – затраты i-го типа оборудования в производ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я в R&amp;D (изобретение) приводят к появлению новых машин в соответствии со следующим урав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η &gt; 0 – эффективность вложений в R&amp;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Z – расходы на R&amp;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ψ &gt;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в экономике Y(t) распределяется межд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м С(t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X(t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новых машин Z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022-E262-4636-98B5-21B70176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D05-FC34-4B4A-A6D2-D8543324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AB0D-17CF-4A3E-9AFD-4F68C370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C17-E1C8-4E89-AD92-731E01CA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F79-4EF5-405C-8BC6-30E66F81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038D-1CA5-4275-B594-5EDC5483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D9D-4D3A-434E-AE03-05593499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E2DD-7D0D-4731-9508-8DDB7C13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14B-7BEC-4F6B-8D93-1B4AA11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661-9417-415C-A3C6-56F36ADF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F7A-4511-4DAA-93F0-91E94B73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C5C1-8226-4677-96B6-0A5D6D00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7D30-CD1A-4427-9D52-521FB21BD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проблемы экономическ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ел: Международная 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роизводитель в пери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ает на свои машины арендную плат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роизводители конечного блага выбирают такие объемы потребления машин и труда, чтобы максимизировать свою прибы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3"/>
          <p:cNvGrpSpPr/>
          <p:nvPr/>
        </p:nvGrpSpPr>
        <p:grpSpPr>
          <a:xfrm>
            <a:off x="539640" y="3127320"/>
            <a:ext cx="8604360" cy="2298240"/>
            <a:chOff x="539640" y="3127320"/>
            <a:chExt cx="8604360" cy="2298240"/>
          </a:xfrm>
        </p:grpSpPr>
        <mc:AlternateContent>
          <mc:Choice xmlns:a14="http://schemas.microsoft.com/office/drawing/2010/main" Requires="a14">
            <p:sp>
              <p:nvSpPr>
                <p:cNvPr id="93" name="Object 4"/>
                <p:cNvSpPr txBox="1"/>
                <p:nvPr/>
              </p:nvSpPr>
              <p:spPr>
                <a:xfrm>
                  <a:off x="539640" y="3127320"/>
                  <a:ext cx="8425080" cy="86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lim>
                          <m:r>
                            <m:t xml:space="preserve">x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  <m:r>
                                <m:t xml:space="preserve">N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L</m:t>
                          </m:r>
                        </m:lim>
                      </m:limLow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d>
                        <m:dPr>
                          <m:begChr m:val="["/>
                          <m:endChr m:val="]"/>
                        </m:dPr>
                        <m:e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e>
                      </m:d>
                      <m:sSup>
                        <m:e>
                          <m:r>
                            <m:t xml:space="preserve">L</m:t>
                          </m:r>
                        </m:e>
                        <m:sup>
                          <m:r>
                            <m:t xml:space="preserve">β</m:t>
                          </m:r>
                        </m:sup>
                      </m:sSup>
                      <m:r>
                        <m:t xml:space="preserve">−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i</m:t>
                          </m:r>
                          <m:r>
                            <m:t xml:space="preserve">−</m:t>
                          </m:r>
                          <m:r>
                            <m:t xml:space="preserve">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94" name="AutoShape 6"/>
            <p:cNvSpPr/>
            <p:nvPr/>
          </p:nvSpPr>
          <p:spPr>
            <a:xfrm rot="16200000">
              <a:off x="3599640" y="2672280"/>
              <a:ext cx="289080" cy="3097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80640 h 3097080"/>
                <a:gd name="textAreaBottom" fmla="*/ 3016440 h 30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7"/>
            <p:cNvSpPr/>
            <p:nvPr/>
          </p:nvSpPr>
          <p:spPr>
            <a:xfrm rot="16200000">
              <a:off x="6552360" y="3032640"/>
              <a:ext cx="289080" cy="2376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8"/>
            <p:cNvSpPr/>
            <p:nvPr/>
          </p:nvSpPr>
          <p:spPr>
            <a:xfrm rot="16200000">
              <a:off x="8424000" y="3824640"/>
              <a:ext cx="289080" cy="792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2268360" y="4581360"/>
              <a:ext cx="31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5724360" y="4508640"/>
              <a:ext cx="21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ендная плата за использование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8028000" y="46530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м спрос на ма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 тип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468360" y="1989000"/>
                <a:ext cx="81374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["/>
                                            <m:endChr m:val="]"/>
                                          </m:dPr>
                                          <m:e>
                                            <m:r>
                                              <m:t xml:space="preserve">x</m:t>
                                            </m:r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w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L</m:t>
                                </m:r>
                              </m:e>
                            </m:nary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пишем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2"/>
          <p:cNvGrpSpPr/>
          <p:nvPr/>
        </p:nvGrpSpPr>
        <p:grpSpPr>
          <a:xfrm>
            <a:off x="468360" y="3789360"/>
            <a:ext cx="8434440" cy="3068640"/>
            <a:chOff x="468360" y="3789360"/>
            <a:chExt cx="8434440" cy="3068640"/>
          </a:xfrm>
        </p:grpSpPr>
        <p:sp>
          <p:nvSpPr>
            <p:cNvPr id="107" name="Rectangle 4"/>
            <p:cNvSpPr/>
            <p:nvPr/>
          </p:nvSpPr>
          <p:spPr>
            <a:xfrm>
              <a:off x="611280" y="4869000"/>
              <a:ext cx="8291520" cy="19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Object 15"/>
                <p:cNvSpPr txBox="1"/>
                <p:nvPr/>
              </p:nvSpPr>
              <p:spPr>
                <a:xfrm>
                  <a:off x="539640" y="3789360"/>
                  <a:ext cx="7993080" cy="117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x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i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β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d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r>
                                <m:t xml:space="preserve">p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</m:t>
                              </m:r>
                            </m:e>
                          </m:nary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L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AutoShape 25"/>
            <p:cNvSpPr/>
            <p:nvPr/>
          </p:nvSpPr>
          <p:spPr>
            <a:xfrm rot="16200000">
              <a:off x="7489080" y="4688280"/>
              <a:ext cx="289080" cy="108108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8080 h 1081080"/>
                <a:gd name="textAreaBottom" fmla="*/ 105300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6"/>
            <p:cNvSpPr/>
            <p:nvPr/>
          </p:nvSpPr>
          <p:spPr>
            <a:xfrm>
              <a:off x="7308720" y="544500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7"/>
            <p:cNvSpPr/>
            <p:nvPr/>
          </p:nvSpPr>
          <p:spPr>
            <a:xfrm>
              <a:off x="4067280" y="5373720"/>
              <a:ext cx="2809800" cy="11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(i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произведе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28"/>
                <p:cNvSpPr txBox="1"/>
                <p:nvPr/>
              </p:nvSpPr>
              <p:spPr>
                <a:xfrm>
                  <a:off x="826920" y="5300640"/>
                  <a:ext cx="251964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den>
                      </m:f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β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β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L</m:t>
                                  </m:r>
                                </m:num>
                                <m:den>
                                  <m:r>
                                    <m:t xml:space="preserve">x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β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AutoShape 29"/>
            <p:cNvSpPr/>
            <p:nvPr/>
          </p:nvSpPr>
          <p:spPr>
            <a:xfrm rot="16200000">
              <a:off x="5147280" y="3861000"/>
              <a:ext cx="360360" cy="252072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65520 h 2520720"/>
                <a:gd name="textAreaBottom" fmla="*/ 2455200 h 25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0"/>
            <p:cNvSpPr/>
            <p:nvPr/>
          </p:nvSpPr>
          <p:spPr>
            <a:xfrm rot="16200000">
              <a:off x="1980360" y="3429360"/>
              <a:ext cx="360360" cy="33843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88200 h 3384360"/>
                <a:gd name="textAreaBottom" fmla="*/ 3296160 h 33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31"/>
            <p:cNvSpPr/>
            <p:nvPr/>
          </p:nvSpPr>
          <p:spPr>
            <a:xfrm>
              <a:off x="826920" y="6093000"/>
              <a:ext cx="28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 данном случае интеграл – просто сумма степене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539640" y="2060640"/>
                <a:ext cx="30243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3964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(i,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8"/>
              <p:cNvSpPr txBox="1"/>
              <p:nvPr/>
            </p:nvSpPr>
            <p:spPr>
              <a:xfrm>
                <a:off x="608040" y="3789360"/>
                <a:ext cx="3897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 временем производитель машин максимизирует свою чистую приведенную стоимость, начиная с текущего момента и до бескон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4"/>
          <p:cNvGrpSpPr/>
          <p:nvPr/>
        </p:nvGrpSpPr>
        <p:grpSpPr>
          <a:xfrm>
            <a:off x="539640" y="2421000"/>
            <a:ext cx="6912000" cy="2056680"/>
            <a:chOff x="539640" y="2421000"/>
            <a:chExt cx="6912000" cy="2056680"/>
          </a:xfrm>
        </p:grpSpPr>
        <mc:AlternateContent>
          <mc:Choice xmlns:a14="http://schemas.microsoft.com/office/drawing/2010/main" Requires="a14">
            <p:sp>
              <p:nvSpPr>
                <p:cNvPr id="129" name="Object 6"/>
                <p:cNvSpPr txBox="1"/>
                <p:nvPr/>
              </p:nvSpPr>
              <p:spPr>
                <a:xfrm>
                  <a:off x="539640" y="2421000"/>
                  <a:ext cx="6747120" cy="84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r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'</m:t>
                                  </m:r>
                                  <m:r>
                                    <m:t xml:space="preserve">)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s</m:t>
                                  </m:r>
                                  <m:r>
                                    <m:t xml:space="preserve">'</m:t>
                                  </m:r>
                                </m:e>
                              </m:nary>
                            </m:sup>
                          </m:s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ψx</m:t>
                          </m:r>
                          <m:r>
                            <m:t xml:space="preserve">(</m:t>
                          </m:r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d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0" name="AutoShape 7"/>
            <p:cNvSpPr/>
            <p:nvPr/>
          </p:nvSpPr>
          <p:spPr>
            <a:xfrm rot="16200000">
              <a:off x="2807280" y="2660760"/>
              <a:ext cx="289080" cy="122400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6200000">
              <a:off x="4354920" y="2408400"/>
              <a:ext cx="289080" cy="172872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9"/>
            <p:cNvSpPr/>
            <p:nvPr/>
          </p:nvSpPr>
          <p:spPr>
            <a:xfrm rot="16200000">
              <a:off x="6084000" y="2768760"/>
              <a:ext cx="289080" cy="1008360"/>
            </a:xfrm>
            <a:custGeom>
              <a:avLst/>
              <a:gdLst>
                <a:gd name="textAreaLeft" fmla="*/ 184680 w 289080"/>
                <a:gd name="textAreaRight" fmla="*/ 289080 w 28908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1403280" y="35607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эффициент дисконтирова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1"/>
            <p:cNvSpPr/>
            <p:nvPr/>
          </p:nvSpPr>
          <p:spPr>
            <a:xfrm>
              <a:off x="3635280" y="3560760"/>
              <a:ext cx="216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ручка от продажи маши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5796000" y="3560760"/>
              <a:ext cx="165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здержки на производство машин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 Box 13"/>
          <p:cNvSpPr/>
          <p:nvPr/>
        </p:nvSpPr>
        <p:spPr>
          <a:xfrm>
            <a:off x="468360" y="4437000"/>
            <a:ext cx="8209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ка процента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, s’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етчики врем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аж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онтирование для фирмы производится по текущей ставке процента, которая может быть неодинаковой во времени, поэтому дисконтирующий множитель выглядит т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быль фирмы в одном периоде не влияет на прибыль в остальных пери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симизируем прибыль фир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9"/>
              <p:cNvSpPr txBox="1"/>
              <p:nvPr/>
            </p:nvSpPr>
            <p:spPr>
              <a:xfrm>
                <a:off x="539640" y="1773360"/>
                <a:ext cx="20052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39640" y="2349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меющемся спросе на маш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611280" y="2781360"/>
                <a:ext cx="2923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Rectangle 12"/>
          <p:cNvSpPr/>
          <p:nvPr/>
        </p:nvSpPr>
        <p:spPr>
          <a:xfrm>
            <a:off x="611280" y="3429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я во внимание, что эластичность спроса на маш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го типа по их цене составляет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ивительно, что все фирмы установят одинаковую надбавку к цене (вспомним индекс Лернера). С другой стороны, все фирмы во все периоды сталкиваются с постоянными предельными издержками. Таким образом, цены всех фирм и во все периоды времени будут одинак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755640" y="5734080"/>
                <a:ext cx="24480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ем равновесную цену в функцию спроса, получаем равновесное количе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0"/>
              <p:cNvSpPr txBox="1"/>
              <p:nvPr/>
            </p:nvSpPr>
            <p:spPr>
              <a:xfrm>
                <a:off x="539640" y="4870440"/>
                <a:ext cx="63374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</m:e>
                    </m:nary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i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ψ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351000" y="2133720"/>
                <a:ext cx="292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9"/>
          <p:cNvSpPr/>
          <p:nvPr/>
        </p:nvSpPr>
        <p:spPr>
          <a:xfrm>
            <a:off x="395280" y="3068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подставим это в производственную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2"/>
              <p:cNvSpPr txBox="1"/>
              <p:nvPr/>
            </p:nvSpPr>
            <p:spPr>
              <a:xfrm>
                <a:off x="468360" y="3500280"/>
                <a:ext cx="432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6" name="Rectangle 14"/>
          <p:cNvSpPr/>
          <p:nvPr/>
        </p:nvSpPr>
        <p:spPr>
          <a:xfrm>
            <a:off x="539640" y="4365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539640" y="5877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начение изобретения новых машин в данной модели становится очевидным: производительность труда прямо пропорциональна их разнообраз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715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вход в отрасль по производству машин свободный, в этой отрасли (как и в отрасли по производству конечных благ) не будет экономической прибыли, то есть затраты, включающие в себя затраты на изобретение и производство, окажутся равны выруч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68360" y="3429000"/>
                <a:ext cx="41749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8360" y="4221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другой стороны, затраты на производство машин составля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611280" y="4724280"/>
                <a:ext cx="254628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ψ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18"/>
          <p:cNvSpPr/>
          <p:nvPr/>
        </p:nvSpPr>
        <p:spPr>
          <a:xfrm>
            <a:off x="611280" y="5300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ен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684360" y="5805360"/>
                <a:ext cx="370656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ψ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4"/>
              <p:cNvSpPr txBox="1"/>
              <p:nvPr/>
            </p:nvSpPr>
            <p:spPr>
              <a:xfrm>
                <a:off x="468360" y="4581360"/>
                <a:ext cx="388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395280" y="1916280"/>
                <a:ext cx="7705800" cy="21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ψ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ψ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ψ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β</m:t>
                                        </m:r>
                                      </m:num>
                                      <m:den>
                                        <m:r>
                                          <m:t xml:space="preserve">ψ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β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L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м равновесные цены и количества машин и получ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324000" y="4149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, поделив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X+Z=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17"/>
              <p:cNvSpPr txBox="1"/>
              <p:nvPr/>
            </p:nvSpPr>
            <p:spPr>
              <a:xfrm>
                <a:off x="3276720" y="5157720"/>
                <a:ext cx="10792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С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"/>
              <p:cNvSpPr txBox="1"/>
              <p:nvPr/>
            </p:nvSpPr>
            <p:spPr>
              <a:xfrm>
                <a:off x="468360" y="371628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4"/>
              <p:cNvSpPr txBox="1"/>
              <p:nvPr/>
            </p:nvSpPr>
            <p:spPr>
              <a:xfrm>
                <a:off x="324000" y="2276640"/>
                <a:ext cx="1584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перь вспомним, что расходы на изобретения определяют темп роста разнообразия маши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24000" y="270828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ив эту формулу в полученное на предыдущем слайде выражение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ыразим темпы прироста продуктового разнообраз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468360" y="465300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ы видели раньше, этот темп прироста и определяет скорость изменения основных переменных модели: выпуска, потребления, заработной плат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"/>
              <p:cNvSpPr txBox="1"/>
              <p:nvPr/>
            </p:nvSpPr>
            <p:spPr>
              <a:xfrm>
                <a:off x="395280" y="1557360"/>
                <a:ext cx="331164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η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50920" y="2565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мпы роста положительно влия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енность населения экономик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тому что достижения изобретателей свободно тиражируются и опосредованно употребляются всеми членами общ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дача от вложений в изобрет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астичность выпуска по объему использованного труда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на первый взгляд это не очевидно, можно показать, что это утверждение справедливо для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чина этого неочевидного результата в том, что чем меньше эластичность выпуска по объему использованных машин, тем, при том же количестве сбережений, больший объем ресурсов может быть использован для изобретения, а не производства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ицательно влияю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400" indent="-68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держки производства машин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ая экономика тесно переплетена с макроэкономикой, это касается не только международных финансов, но и международной торговли. Однако в базовых курсах международной экономики этой связи уделяется немного внимания, точно так же, как и в курсе макро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перь применим эту модель к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этого введем следующие изме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усть у нас теперь будет некоторое количество стра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однотипными, но разными производственными функц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1042920" y="2755800"/>
                <a:ext cx="59054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b>
                      <m:e>
                        <m:r>
                          <m:t xml:space="preserve">L</m:t>
                        </m:r>
                      </m:e>
                      <m:sub>
                        <m:sSup>
                          <m:e>
                            <m:r>
                              <m:t xml:space="preserve">j</m:t>
                            </m:r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индивидуальные переменные помечены индексом стран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ск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ехнического прогрес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спользованных маш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ое ограничение, разумеется, будет для каждой страны собственным, раз у нее свой выпу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900000" y="2421000"/>
                <a:ext cx="39369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539640" y="299736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мание: поскольку предполагается, что ежегодно соблюдается это равенство, неявно предполагается, что в экономике сбалансированы торговые балансы, и не производится перелив капитала. Впрочем, если мы не сделаем дополнительных допущений, в стационарном состоянии процентные ставки будут равны, и перелива действительно не произойд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м более существенное изменение: уровень развития мировых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68360" y="3429000"/>
            <a:ext cx="82915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, таким образом, предполагаем, что чем сильнее отставание странового уровня развития технологий от уровня развития мировых технологий, тем быстрее происходит преследование. Это свойство позволит моделировать догоняющее развитие на переходных эта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ыв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пень чувствительности скорости преследования к величине отста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7"/>
              <p:cNvSpPr txBox="1"/>
              <p:nvPr/>
            </p:nvSpPr>
            <p:spPr>
              <a:xfrm>
                <a:off x="826920" y="2276640"/>
                <a:ext cx="3600720" cy="10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4"/>
              <p:cNvSpPr txBox="1"/>
              <p:nvPr/>
            </p:nvSpPr>
            <p:spPr>
              <a:xfrm>
                <a:off x="539640" y="2349360"/>
                <a:ext cx="324036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0"/>
              <p:cNvSpPr txBox="1"/>
              <p:nvPr/>
            </p:nvSpPr>
            <p:spPr>
              <a:xfrm>
                <a:off x="611280" y="5603760"/>
                <a:ext cx="3960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N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num>
                              <m:den>
                                <m:r>
                                  <m:t xml:space="preserve">ψ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помним, что, как и раньше, равновесный объем вложений в исследования составляет (с учетом страновых различи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324000" y="335772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 же время, расходы на исследования обеспечивают рост национального уровня технолог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46836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816120" y="4094280"/>
                <a:ext cx="29034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N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φ</m:t>
                        </m:r>
                      </m:sup>
                    </m:sSup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миров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250920" y="2492280"/>
                <a:ext cx="5903640" cy="16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N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β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β</m:t>
                                    </m:r>
                                  </m:num>
                                  <m:den>
                                    <m:r>
                                      <m:t xml:space="preserve">ψ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β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φ</m:t>
                            </m:r>
                          </m:sup>
                        </m:s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Rectangle 5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ционарном состоянии темпы роста экономики одинаковы. Что же будет известно об уровнях развития технологий и, соответственно, доходах в разных стран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179280" y="4076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, следоват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50920" y="537372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, уровень технического развития в этой модели будет прямо пропорционален численности населения и эффективности вложений в заимствование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10"/>
              <p:cNvSpPr txBox="1"/>
              <p:nvPr/>
            </p:nvSpPr>
            <p:spPr>
              <a:xfrm>
                <a:off x="250920" y="4437000"/>
                <a:ext cx="1977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φ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0000"/>
          </a:bodyPr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ичное свойство моделей тип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рассмотренной, – предсказывать для крупных экономик бОльшие темпы роста, чем для маленьких. Однако статистика опровергает такой вывод. Как вы считаете, где находится расхождение между описанной моделью (в приложении к мировой экономике) и реальностью, которое ведет к этому разногласию в отношении связи между размером экономики и темпами рос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всех изобретений в мире приходится на развитые страны. Соответствует ли этот факт предсказаниям моде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ожим, при оценке модели вы хотите учесть глобализацию мировой экономики. Каким(и) параметром(ами) вы бы попытались отразить это изме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571680" y="2647800"/>
            <a:ext cx="3809880" cy="242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611280" y="3645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50920" y="155736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жонатан Хюбнер обнаружил, что число патентов в США и изобретений в мире имеет Л-образную форму (см. картин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2"/>
          <a:stretch/>
        </p:blipFill>
        <p:spPr>
          <a:xfrm>
            <a:off x="4762440" y="2690640"/>
            <a:ext cx="3810240" cy="23432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10"/>
          <p:cNvSpPr/>
          <p:nvPr/>
        </p:nvSpPr>
        <p:spPr>
          <a:xfrm>
            <a:off x="324000" y="5084640"/>
            <a:ext cx="8291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Какие гипотезы можно выдвинуть о причинах такого поведения в свете представленной моде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755640" y="2852640"/>
            <a:ext cx="6448320" cy="24289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50920" y="1413000"/>
            <a:ext cx="8291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28260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Пол Ромер в 1986 году предположил, что темпы экономического роста даже для стран-лидеров технического прогресса в перспективе нескольких столетий возрастают (см. таблицу). Обсудите, совместимы ли такие выводы с находкой Хюбн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й лекции речь пойдет об одном относительно несложном приложении модели экономического роста к мировой экономике, состоящей из неодинаковых национальных эконом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ложения будут выявлены некоторые факторы, обеспечивающие сильное неравенство в распределении доходов в мире и указывающие на дополнительные выгоды от свободы торговли по сравнению с обсуждаемыми в стандартном курсе международн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воря точнее, речь пойдет о приложении к мировой экономики известной вам модели растущего разнообразия товаров Пола Ро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ложение базовой модели см., например, в 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«Макроэкономике» Тумановой и Шагас, п. 10.3.1.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339933"/>
                </a:solidFill>
                <a:latin typeface="Arial"/>
              </a:rPr>
              <a:t>там несколько другие обознач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простоты я сделаю основные выкладки прямо в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в нашей экономике есть бесконечно живущие репрезентативные потребители, потребляющие некоторое агрегированное благо, все из которых работают фиксированное количество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и их число не изменяется со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полезности этих индивидов описывается функцией полез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16000" y="2852640"/>
                <a:ext cx="40384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ρt</m:t>
                            </m:r>
                          </m:sup>
                        </m:sSup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C(t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объем потребления блага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дисконтирования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ель межвременной эластичности за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оизводства этого агрегированного блага требуется разное оборудование, которое представлено континуумом типов от 0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(t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производственная функция выглядит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042920" y="2720880"/>
                <a:ext cx="40370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e>
                    </m:d>
                    <m:sSup>
                      <m:e>
                        <m:r>
                          <m:t xml:space="preserve">L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39640" y="4221000"/>
            <a:ext cx="82915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астичность выпуска по затратам труда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 типа оборудования в производст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изобретение) приводят к появлению новых машин в соответствии со следующим 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684360" y="2349360"/>
                <a:ext cx="187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η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9640" y="292428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ффективность вложений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ходы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&amp;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9"/>
              <p:cNvSpPr txBox="1"/>
              <p:nvPr/>
            </p:nvSpPr>
            <p:spPr>
              <a:xfrm>
                <a:off x="611280" y="4149720"/>
                <a:ext cx="193176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611280" y="5084640"/>
            <a:ext cx="82915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рма, совершившая изобретение, становится монополистом по производству соответствующего типа машин. Предельные издержки производства каждой машины одинаковы для всех фирм и составл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ель растущего разнообразия товаров в закрытой эконом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уск в экономи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яется меж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лением С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ожением в производство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етением новых маши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(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539640" y="2852640"/>
                <a:ext cx="4248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Rectangle 5"/>
          <p:cNvSpPr/>
          <p:nvPr/>
        </p:nvSpPr>
        <p:spPr>
          <a:xfrm>
            <a:off x="611280" y="4869000"/>
            <a:ext cx="82915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6:15Z</dcterms:created>
  <dc:creator>IK</dc:creator>
  <dc:description/>
  <dc:language>en-US</dc:language>
  <cp:lastModifiedBy>LEGION</cp:lastModifiedBy>
  <dcterms:modified xsi:type="dcterms:W3CDTF">2016-01-05T11:04:23Z</dcterms:modified>
  <cp:revision>6</cp:revision>
  <dc:subject/>
  <dc:title>Современные проблемы экономической теории</dc:title>
</cp:coreProperties>
</file>